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4D6-DD72-43BE-B5F9-0FBD4E9B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DBF-0AB8-4310-B512-B74AFB30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E45-457C-4806-A1A6-FB6DDFB6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175-C304-422F-9A1A-751D6D21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667-1839-4656-B0C6-DF28F5A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7E1-29AF-4E91-84A8-1B6DDC40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EEF-DC45-485E-8C46-6429DE5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422-EFD5-487F-9F7C-677240D6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437-8163-413B-B98D-8F9A7BF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46E-716C-42C8-9940-E43FF4C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A8F-5C71-41E3-A66D-4C5E4604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2E6-BA45-4FFF-8288-5FDFF102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B22-8BE3-4342-A96F-BB5F77CF5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2438280"/>
            <a:ext cx="5943600" cy="2743200"/>
            <a:chOff x="1600200" y="2438280"/>
            <a:chExt cx="5943600" cy="2743200"/>
          </a:xfrm>
        </p:grpSpPr>
        <p:sp>
          <p:nvSpPr>
            <p:cNvPr id="43" name=""/>
            <p:cNvSpPr/>
            <p:nvPr/>
          </p:nvSpPr>
          <p:spPr>
            <a:xfrm>
              <a:off x="3962520" y="2438280"/>
              <a:ext cx="129528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38480" y="25142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3581280"/>
              <a:ext cx="129564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62720" y="3581280"/>
              <a:ext cx="129528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0020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2940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733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3733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5248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532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3352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220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047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4419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1952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44193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1028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722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1 - Line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and Staf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600200" y="2057400"/>
            <a:ext cx="5943600" cy="3504960"/>
            <a:chOff x="1600200" y="2057400"/>
            <a:chExt cx="594360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1600200" y="2057400"/>
              <a:ext cx="5943600" cy="3504960"/>
              <a:chOff x="1600200" y="2057400"/>
              <a:chExt cx="5943600" cy="35049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600200" y="2057400"/>
                <a:ext cx="5943600" cy="3504960"/>
                <a:chOff x="1600200" y="2057400"/>
                <a:chExt cx="5943600" cy="3504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962520" y="2057400"/>
                  <a:ext cx="129528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114800" y="220968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209680" y="3962160"/>
                  <a:ext cx="1295640" cy="60984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562720" y="3962160"/>
                  <a:ext cx="1295280" cy="60984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0020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2940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0552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5268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590920" y="4114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19920" y="41148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5248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25780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78168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0532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19520" y="3733560"/>
                  <a:ext cx="335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7335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172200" y="37335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72000" y="266688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57400" y="4800600"/>
                  <a:ext cx="175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0988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57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819520" y="4572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86400" y="480060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86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1028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172200" y="4572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3352680" y="2971800"/>
                <a:ext cx="914400" cy="4572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76920" y="2971800"/>
                <a:ext cx="914400" cy="4572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8128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09880" y="281916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9880" y="2819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2819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791320" y="2971800"/>
              <a:ext cx="10666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7080" y="320040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209320" y="297180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05320" y="32004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2 - Line and Staff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00200" y="1981080"/>
            <a:ext cx="5943600" cy="3504960"/>
            <a:chOff x="1600200" y="1981080"/>
            <a:chExt cx="5943600" cy="3504960"/>
          </a:xfrm>
        </p:grpSpPr>
        <p:grpSp>
          <p:nvGrpSpPr>
            <p:cNvPr id="112" name=""/>
            <p:cNvGrpSpPr/>
            <p:nvPr/>
          </p:nvGrpSpPr>
          <p:grpSpPr>
            <a:xfrm>
              <a:off x="1600200" y="1981080"/>
              <a:ext cx="5943600" cy="3504960"/>
              <a:chOff x="1600200" y="1981080"/>
              <a:chExt cx="5943600" cy="350496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1981080"/>
                <a:ext cx="129528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14800" y="213336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09680" y="3885840"/>
                <a:ext cx="1295640" cy="60984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62720" y="3885840"/>
                <a:ext cx="1295280" cy="60984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0020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2940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552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268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9092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9920" y="4038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4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5780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16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0532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19520" y="36572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19520" y="3657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3657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259056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7400" y="47242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988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740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1952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6400" y="47242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40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7220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352680" y="2895480"/>
              <a:ext cx="914400" cy="4572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2895480"/>
              <a:ext cx="914400" cy="4572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2895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2895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27428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742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2742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3 - Functional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6:37:16Z</dcterms:created>
  <dc:creator>Amanda Anderson</dc:creator>
  <dc:description/>
  <dc:language>en-US</dc:language>
  <cp:lastModifiedBy>Student FB Wirtschaft</cp:lastModifiedBy>
  <cp:lastPrinted>2000-03-07T17:09:17Z</cp:lastPrinted>
  <dcterms:modified xsi:type="dcterms:W3CDTF">2008-11-07T20:13:39Z</dcterms:modified>
  <cp:revision>1</cp:revision>
  <dc:subject/>
  <dc:title>Line Organization</dc:title>
</cp:coreProperties>
</file>